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54821"/>
        <c:axId val="82938620"/>
      </c:barChart>
      <c:catAx>
        <c:axId val="36054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38620"/>
        <c:crosses val="autoZero"/>
        <c:auto val="1"/>
        <c:lblAlgn val="ctr"/>
        <c:lblOffset val="100"/>
        <c:noMultiLvlLbl val="0"/>
      </c:catAx>
      <c:valAx>
        <c:axId val="82938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4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35F-63B6-421D-92ED-CB63036E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6B5-382A-4D10-9B4E-BE0CBD2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DE3-5C10-423C-8E43-33D72B0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EBB-120D-4EF6-903E-9BA1A55F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88C-49D8-469A-93F4-F7603FC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D5B-8B52-4A94-966D-BDACE3B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02-8600-4A48-9E6A-113413C7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5BD-57BE-41D5-9D71-24DE634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37F-E936-40B4-9606-7E96799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D09-D2E4-4CF4-AFCE-B37C560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2B4-0E1B-482A-86D8-8A2A927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7D7-3C94-4003-BA2B-C1A1855A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F1A9D-CF51-453F-AC53-84A699AE3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