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94261"/>
        <c:axId val="79351364"/>
      </c:barChart>
      <c:catAx>
        <c:axId val="75994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51364"/>
        <c:crosses val="autoZero"/>
        <c:auto val="1"/>
        <c:lblAlgn val="ctr"/>
        <c:lblOffset val="100"/>
        <c:noMultiLvlLbl val="0"/>
      </c:catAx>
      <c:valAx>
        <c:axId val="79351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94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366-6E4C-4251-8FA2-D7DAF208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9B3-E819-4FF2-BC7E-93E85DF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1C6-EF33-4474-9284-2687CAC9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33F-EFD8-434E-8A4F-3F58E1E4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48A-051B-400C-9338-0B4EEE7E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CA4-66C4-49EC-B6D9-AF8D96B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155-78DF-4997-86AD-29D25950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3D5-30E9-49C6-833A-69C8CCB9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200-2266-4B11-BEC3-89C60BEE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F6D-6BA4-47B6-A8BF-41F6F61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B89-03AF-48C7-8B12-160791E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B21-A9F0-4749-9CCE-1043E69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85972-6304-4D53-BDFE-1074687394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