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04018"/>
        <c:axId val="8816631"/>
      </c:barChart>
      <c:catAx>
        <c:axId val="40204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6631"/>
        <c:crosses val="autoZero"/>
        <c:auto val="1"/>
        <c:lblAlgn val="ctr"/>
        <c:lblOffset val="100"/>
        <c:noMultiLvlLbl val="0"/>
      </c:catAx>
      <c:valAx>
        <c:axId val="88166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04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08F-67BF-4F06-B313-3F6F62A0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D9B-B96A-44C1-976C-3D32380C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F54C-2210-4193-9544-6F9A1641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3FC3-257F-44CF-A257-51EB280A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1E4-908E-4939-9887-2D933406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D23C-9BA9-4B3D-994F-A26079ED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9123-B386-4AE4-BF4F-A220515F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CC5-68AA-420E-801F-4D842DFC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C643-CA25-49BA-B42D-5F91A9CA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8E5-FCDA-4A57-98DB-E30C23FF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8A3-E20D-42B9-A27D-114BCEBB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2C34-FD54-4721-AB7E-CA602257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64C19-D06B-4537-9C77-21C9665D3A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