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24513"/>
        <c:axId val="43218641"/>
      </c:barChart>
      <c:catAx>
        <c:axId val="93224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18641"/>
        <c:crosses val="autoZero"/>
        <c:auto val="1"/>
        <c:lblAlgn val="ctr"/>
        <c:lblOffset val="100"/>
        <c:noMultiLvlLbl val="0"/>
      </c:catAx>
      <c:valAx>
        <c:axId val="43218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24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00E-F18F-41DB-93EC-E7031AB9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E4A-D42D-418A-87CC-DAA58256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7CE-164D-45C2-BF6E-E41835C6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3B0-AD0F-4A8C-9CA1-04D1D331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CE5-6471-4A51-9E17-8FD89C5E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24E-221E-42A9-A332-5C3E1E18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C6E-64C3-487B-B022-C785FC5D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434-8392-4CD9-A23B-BBC9A003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30F-8077-4865-9791-035D90F1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F65-9F75-456C-AC92-E58F0ECD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E33-7776-4B5E-928B-25194791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C77-EB30-4315-9509-34BB3AFF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C7963-00BB-4530-8C97-4B0362520D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