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14088"/>
        <c:axId val="86113995"/>
      </c:barChart>
      <c:catAx>
        <c:axId val="27114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13995"/>
        <c:crosses val="autoZero"/>
        <c:auto val="1"/>
        <c:lblAlgn val="ctr"/>
        <c:lblOffset val="100"/>
        <c:noMultiLvlLbl val="0"/>
      </c:catAx>
      <c:valAx>
        <c:axId val="86113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14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B40-1D2E-4794-BC51-3578DE3C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65E-1C60-4771-879F-84903F21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EEF-4E3A-46BB-88E4-27843D2A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DF1-0D2F-4E9C-B3EE-A32BD9E9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293-4834-467C-8757-E8C81FF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7E6-D1E4-46B5-B73C-9D6984A1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BA7-40C2-4D4A-8DEE-C9C2914F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7DF-B615-43AB-9FF9-EBC748D2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826-DE58-4B1C-862D-35FAFFE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4B1-44FB-4AB5-9C5F-824D065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94A-8C2F-45E3-A5C3-0068DD68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FCD-D72E-4B2B-97B3-18696372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34B9-02DB-4CC5-A052-985A5E01FD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