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42674"/>
        <c:axId val="87579502"/>
      </c:barChart>
      <c:catAx>
        <c:axId val="92742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9502"/>
        <c:crosses val="autoZero"/>
        <c:auto val="1"/>
        <c:lblAlgn val="ctr"/>
        <c:lblOffset val="100"/>
        <c:noMultiLvlLbl val="0"/>
      </c:catAx>
      <c:valAx>
        <c:axId val="87579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42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721-DB30-4887-9254-D4CF0F52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BF1-09C2-45EB-BF36-A7F06E08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048-B6E5-483C-904D-D86CF88E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ACA-35E2-453F-B02F-2C8E612C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9BA-07A0-4A55-96FE-E30E4CEE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5A8-3A17-4CAA-9AAB-29F03497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0B1-0DEC-4758-8CCA-3A994AF7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9C0-27FA-465A-9ADF-3C36AD5E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4BD-6C35-4907-9EA0-D170A102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581-2B25-4955-9F00-BC5C1F4E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B15-A79D-464F-94E7-5EB235D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843-3D0D-4E5F-BB07-75633356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3623E-33A9-43DD-B6D2-322F166F5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