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2519402"/>
        <c:axId val="11406457"/>
      </c:barChart>
      <c:catAx>
        <c:axId val="1251940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406457"/>
        <c:crosses val="autoZero"/>
        <c:auto val="1"/>
        <c:lblAlgn val="ctr"/>
        <c:lblOffset val="100"/>
        <c:noMultiLvlLbl val="0"/>
      </c:catAx>
      <c:valAx>
        <c:axId val="1140645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51940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C0F6E-3C29-4BFB-AF28-5728FA126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EE3C9-C35D-471C-8C0A-E2C90C1E8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7AEB6-F753-46D8-B2CD-DD1F6E7B1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2CFC4-E91E-4181-B6B1-4589B0309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7FF7A-912D-49EE-B1FE-EC6827AC3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8D440-6AD6-4752-9AE0-E12BD5907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7FC46-557C-45C9-99AF-2C4B0F20A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2780B-ECCC-4CB8-B1EE-0CE20C2B6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0885E-3199-4030-9A16-90AACD4F6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33757-A1D3-4411-84FF-B49E7497E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CE16C-474A-4B09-8531-8C4202AEB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FECF1-0723-46D2-8FBF-3ACAE0949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26D442-DB29-4DDA-B962-1D5492BC6ED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