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72707"/>
        <c:axId val="5904122"/>
      </c:barChart>
      <c:catAx>
        <c:axId val="49372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4122"/>
        <c:crosses val="autoZero"/>
        <c:auto val="1"/>
        <c:lblAlgn val="ctr"/>
        <c:lblOffset val="100"/>
        <c:noMultiLvlLbl val="0"/>
      </c:catAx>
      <c:valAx>
        <c:axId val="5904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2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9DC-66A3-4899-A74E-06392959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A46-36AB-4A36-80F4-C8AC115A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6B4-4D15-4A12-8457-B2444E05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B1F-DFEC-4162-AA85-C69A2AD2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729-0FFB-4DFB-B6C6-2A479D65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9661-C257-4974-A273-A0A1101C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0F6-BC57-4161-8078-F511A1EA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C03-069D-4584-9257-AC1B7B10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72E-A36D-4CE1-8BAF-5021CEED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A70-2756-4431-96F9-6270ECD5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02C-8FBC-4699-BDAB-5D551597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2B5-83F9-443E-8F9C-41E96C7A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BDB8E-15D3-49D2-A2FC-4320E0F512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