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26665"/>
        <c:axId val="18851474"/>
      </c:barChart>
      <c:catAx>
        <c:axId val="19526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51474"/>
        <c:crosses val="autoZero"/>
        <c:auto val="1"/>
        <c:lblAlgn val="ctr"/>
        <c:lblOffset val="100"/>
        <c:noMultiLvlLbl val="0"/>
      </c:catAx>
      <c:valAx>
        <c:axId val="18851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6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3AD-2B1E-42A4-A741-4E4029C4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138-1F8E-47D8-B963-CB8F19B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BE8-2A9A-47FC-9500-5D783B75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E40-990B-4D26-BEF0-9A1090FA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A64-C7D1-4905-86F0-C6B8D795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F61-F554-4624-AF64-40D177CA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1FC-759C-47A7-9D08-B2CE3F91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78F-A08F-4718-BBBF-03474034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552-0223-4C58-866B-8B0731F5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E1F-8E93-4F6F-B254-8564E067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5B8-D349-469E-949D-6AFAA8F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63D-3913-4CED-9E62-BB7DEF0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AD8CA-ECF4-434B-98BE-58DE7DFC38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