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88768"/>
        <c:axId val="38535351"/>
      </c:barChart>
      <c:catAx>
        <c:axId val="87988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35351"/>
        <c:crosses val="autoZero"/>
        <c:auto val="1"/>
        <c:lblAlgn val="ctr"/>
        <c:lblOffset val="100"/>
        <c:noMultiLvlLbl val="0"/>
      </c:catAx>
      <c:valAx>
        <c:axId val="38535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88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806-9630-42AF-9CB6-B892BB4B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691-F96C-482C-B849-4EFD88DF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963-D93E-4615-A78B-431AEF94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881-F10B-41D2-97D9-E96E93E1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ECC-12A1-402B-AB50-7A68DAC5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F79-80F9-4425-86E8-F45A1469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456-A1B5-469E-AA08-236EAD04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4AF-1A01-4CD3-93F7-CD3477B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057-98E8-4120-AD8D-4F56B9A8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51C-65E0-497B-B480-FEB6519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B54-653A-47B4-B22D-B99EE6C3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715-716A-41DC-A97E-F57034A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64F06-031A-416F-A6E4-E3FD626450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