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19154"/>
        <c:axId val="56663773"/>
      </c:barChart>
      <c:catAx>
        <c:axId val="73319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63773"/>
        <c:crosses val="autoZero"/>
        <c:auto val="1"/>
        <c:lblAlgn val="ctr"/>
        <c:lblOffset val="100"/>
        <c:noMultiLvlLbl val="0"/>
      </c:catAx>
      <c:valAx>
        <c:axId val="56663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19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D2B-3A5A-40E6-AB3A-4D866034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CB1-B39D-416C-BA72-399CD0D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DFF-A535-4C38-971A-2C3D5024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F54-EF1B-4A1F-9BD4-85E7FF36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33B-75E4-4E45-9DA8-D5C61B97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A6F-819B-4B84-B8A4-B88982F9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56F-F723-45A4-9943-F03B6C99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2B8-963D-481C-87A7-DD4CD6C2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F0F-F4B8-477E-916E-3D5F6E42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B50-4BC7-4573-8A64-560DE098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6CF-7D18-4A47-B023-C79797B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C0C-C8B6-4841-8D33-135032A2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26267-68C0-4F00-B224-14FC658CF6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