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06418"/>
        <c:axId val="23312168"/>
      </c:barChart>
      <c:catAx>
        <c:axId val="5200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12168"/>
        <c:crosses val="autoZero"/>
        <c:auto val="1"/>
        <c:lblAlgn val="ctr"/>
        <c:lblOffset val="100"/>
        <c:noMultiLvlLbl val="0"/>
      </c:catAx>
      <c:valAx>
        <c:axId val="23312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0A2-02C5-49A3-B281-8A80C520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A1C-9432-4764-87E7-C30226F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AEE-DA54-444B-A1D8-A78690A0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FA8-CAD4-45D9-AD36-8EDD2AA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E23-BB77-4575-828D-E7EB6305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C88-0858-4D37-A99F-138B9AE4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CAC-05DA-4CF2-BB79-2078D08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33D-F05A-4A4C-AD82-5EDEE55C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A53-8EF3-4903-8D89-0E6B902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7D1-BFD8-43CB-B632-B1F01A5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10C-2D44-446B-BC36-8FB8355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194-7014-4C97-98C1-54FFA5B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6E1E3-C917-4C53-A7CF-A87D423E0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