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72006"/>
        <c:axId val="69750281"/>
      </c:barChart>
      <c:catAx>
        <c:axId val="48472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50281"/>
        <c:crosses val="autoZero"/>
        <c:auto val="1"/>
        <c:lblAlgn val="ctr"/>
        <c:lblOffset val="100"/>
        <c:noMultiLvlLbl val="0"/>
      </c:catAx>
      <c:valAx>
        <c:axId val="69750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2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0F4-4698-4AF8-9229-4B7F1BFE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E7E-9235-42D4-BD06-08970D97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4B3-0473-4E19-AF6D-2A54126C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9E9-7A4D-4774-891F-8EF2B4E1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72B-748A-414F-991A-1D51F1B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1AE-9153-4057-85B7-DF9CB1E8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CD9-E861-4E3E-904C-C6F62CA1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5AA-6094-476F-9EDF-5BE258C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67A-95B4-476F-A357-FADE0F50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1B0-FCA5-4031-A5D2-AAA086A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048-7398-45DE-BD48-5920FEF2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1E1-7EF5-45B4-98E0-1BD3899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9A965-9777-40F4-B6D9-ABCA3D493E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