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63971"/>
        <c:axId val="96900590"/>
      </c:barChart>
      <c:catAx>
        <c:axId val="40563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00590"/>
        <c:crosses val="autoZero"/>
        <c:auto val="1"/>
        <c:lblAlgn val="ctr"/>
        <c:lblOffset val="100"/>
        <c:noMultiLvlLbl val="0"/>
      </c:catAx>
      <c:valAx>
        <c:axId val="96900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63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196-A345-4D42-B6BA-71A5E805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EC6-4D55-465C-96D7-CA797965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A6B-CBAE-4403-92FF-8664E9D4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115-98F2-44A3-AD39-157B7C11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9EE-2797-45B5-8F1B-D8145406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9D8-3368-452E-A366-2D9C323F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AF5-12F7-452D-A96F-17FABAD9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0BA-9B6C-4C97-8EE1-4795020F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5D3-F20F-4556-BCF8-3215BF9B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539-3291-4E93-9B65-241E331A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1E2-F236-4481-A454-6023342E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F9C-607D-4C95-AA0A-87EEDF08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AC1BF-9C58-4DF5-BF57-68DF5BDB52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