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290"/>
        <c:axId val="28790144"/>
      </c:barChart>
      <c:catAx>
        <c:axId val="77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0144"/>
        <c:crosses val="autoZero"/>
        <c:auto val="1"/>
        <c:lblAlgn val="ctr"/>
        <c:lblOffset val="100"/>
        <c:noMultiLvlLbl val="0"/>
      </c:catAx>
      <c:valAx>
        <c:axId val="28790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F73-B296-4C8B-9D1D-3FBFF3E3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891-750A-432D-A1B8-E7C3C463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24C-18B1-46EC-8ECE-29C497A0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975-AD51-4F12-80BD-85E0F682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5B3-DCEE-4749-9367-F488A54E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DEF-6F28-4C8D-B3CC-DACEFBE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996-C985-437E-A0E7-2B974AD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6DB-8462-4839-9607-C1ECC5C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7C3-0B10-49AD-8B01-A557291D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CC0-D0D7-4335-9ED6-BB4BCE5E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CDC-D7E5-4288-A150-C567457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431-9A38-4621-A6B4-4AB6800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402E9-B62B-44D4-A4E7-D9DE33EA3B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