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468655"/>
        <c:axId val="2629558"/>
      </c:barChart>
      <c:catAx>
        <c:axId val="764686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29558"/>
        <c:crosses val="autoZero"/>
        <c:auto val="1"/>
        <c:lblAlgn val="ctr"/>
        <c:lblOffset val="100"/>
        <c:noMultiLvlLbl val="0"/>
      </c:catAx>
      <c:valAx>
        <c:axId val="26295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4686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3B52-41CC-43C2-BF19-93F0BE394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28EE-9813-4B03-BF5B-BC7A7DA35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5851-11E4-4E39-8732-F5F16789C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9B36-5BCF-4685-8C85-589808A90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541B-52A6-4BB8-BA09-090F7C13E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5338-2DF5-41BB-A76D-17131C463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F6E7-EC1E-4121-8229-10C454ECC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AC79-02EF-4D36-9255-13B006F4C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E38D-2DB4-47C4-9A02-8AC49AD85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1158-C86C-42A9-B411-E9B13B63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E3F3-3C92-4726-BAED-19E598C0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DAF5-2FAB-455E-827E-1A6728848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075CB6-D64E-4873-8358-DF8A4FB8E05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